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402-5700-4CDB-A2BF-19ABBA1D7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B4F5-823E-42C2-9705-477BD5158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831-12AC-4974-B0BD-5E22D492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FC9-6EFE-41E3-AD1F-FCBDF290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DAF-6FBC-4338-9F99-23C6F17B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CAD-7D15-4B5B-A1D2-50AFDCEF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99B-6670-486D-B216-B7836624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1A5-AF9C-46DA-ACAB-1DB5F61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4963-C7DF-4E26-B30C-F736FB4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766A-0944-407A-B4F7-96B4BC9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3696-77AA-4084-BE1D-9D67D40B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48E8-D6C4-44AD-B2F2-E84EC9D0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E04-3ECE-4C49-B1F5-E489CFB8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BC3-BB88-4D51-BAE0-6C9551A0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B456-5BD2-4772-B253-BC9EF2F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252A-3B54-4E85-9E88-416FEB44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B808-2E26-41F8-8F31-7CC34F18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D28A-C3A7-4EBA-946C-B7FE8279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35AE-A7A5-403F-A99C-0A4D13CF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22C5-991D-4C2E-8A59-723A2992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2D47-A27E-4F83-A9A0-3D78A6D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A9D0-9FAA-45B1-AD1F-C418DE47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E7E4F-63F8-4343-9E12-BABD270D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8830-4C56-408A-949B-E48EBF9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B9B-7E49-47EA-A8FD-6B171DC2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AE4E-B614-4E04-952D-E3ED1B28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B877-4A7C-4575-9A29-88008802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036B-14F2-4798-81C6-5B2EED20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636E-50BF-4274-8D58-046F2F4D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DFB9-3524-4505-B944-8046E02F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DECE-8F17-4173-9BCB-874D1430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E590-53A8-476C-8409-15656DCB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D771-BEA1-49FA-AA81-67381134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77445-BF47-41A0-8020-206B918A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87CC-BC2A-413F-B428-0163ABC5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752-3D7E-4BCA-AC32-797926B5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3391-8A98-4D70-B018-2454F546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854F-92A8-45A6-915D-1F0147BE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95E83-0FA6-48A3-94DC-8D14C2F6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0158-D842-4B2B-B86C-42DFDAE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9FF93-47CD-464C-B529-A99D1F4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7CF6-3C41-4B07-943E-30C2630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16B0-BA7A-4565-831A-689ABA43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0CAC-6812-4EA1-A0E2-0A1F90DC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1E9C-D921-4F22-A0CC-1598B380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648-0A8B-4592-8D16-D5788090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D1C-DC47-4598-A4E5-6CEB227B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337-B1BC-47F3-903E-91A48FE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173-2BA2-4FA7-8B17-A59B03E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2F4-8FF6-4372-BD05-AB16279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C143-1728-493D-A9D7-2D2E874264A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395A-3D1D-4F7D-8D90-E106E1E3347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BD1-FD6C-4EB1-9C4C-54F4F254F4D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C795-39D1-4AE6-83EC-FE5D86606F2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1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9"/>
          <p:cNvSpPr/>
          <p:nvPr/>
        </p:nvSpPr>
        <p:spPr>
          <a:xfrm>
            <a:off x="609480" y="762120"/>
            <a:ext cx="82296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Колонтитул"/>
          <p:cNvPicPr/>
          <p:nvPr/>
        </p:nvPicPr>
        <p:blipFill>
          <a:blip r:embed="rId1"/>
          <a:stretch/>
        </p:blipFill>
        <p:spPr>
          <a:xfrm>
            <a:off x="0" y="6040440"/>
            <a:ext cx="9144000" cy="8301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7"/>
          <p:cNvSpPr/>
          <p:nvPr/>
        </p:nvSpPr>
        <p:spPr>
          <a:xfrm>
            <a:off x="42840" y="1122480"/>
            <a:ext cx="9048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Информация к докла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«О бюджетном процесс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в Белоярском райо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1306a"/>
                </a:solidFill>
                <a:latin typeface="Segoe UI"/>
                <a:ea typeface="Segoe UI"/>
              </a:rPr>
              <a:t>О принципах формирования бюджета Белояр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-6480" y="5178600"/>
            <a:ext cx="9147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821a08"/>
                </a:solidFill>
                <a:latin typeface="Segoe UI"/>
                <a:ea typeface="Segoe UI"/>
              </a:rPr>
              <a:t>  </a:t>
            </a:r>
            <a:r>
              <a:rPr b="1" i="1" lang="ru-RU" sz="1500" spc="-1" strike="noStrike">
                <a:solidFill>
                  <a:srgbClr val="21306a"/>
                </a:solidFill>
                <a:latin typeface="Segoe UI"/>
                <a:ea typeface="Segoe UI"/>
              </a:rPr>
              <a:t>Докладчик: Ирина Юрьевна Гисс - заместитель главы Белоярского района, председатель Комитета по финансам и налоговой политике администрации Белоярского райо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-92160" y="-60480"/>
            <a:ext cx="1811520" cy="3005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3"/>
          <a:stretch/>
        </p:blipFill>
        <p:spPr>
          <a:xfrm>
            <a:off x="7848720" y="144360"/>
            <a:ext cx="1110960" cy="1351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947880" y="304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елоярский рай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Ханты-Мансийский автономный округ - Юг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Прямоугольник 1"/>
          <p:cNvGrpSpPr/>
          <p:nvPr/>
        </p:nvGrpSpPr>
        <p:grpSpPr>
          <a:xfrm>
            <a:off x="596880" y="1504800"/>
            <a:ext cx="3139920" cy="927360"/>
            <a:chOff x="596880" y="1504800"/>
            <a:chExt cx="3139920" cy="927360"/>
          </a:xfrm>
        </p:grpSpPr>
        <p:pic>
          <p:nvPicPr>
            <p:cNvPr id="24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96880" y="1504800"/>
              <a:ext cx="313992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17400" y="1531800"/>
              <a:ext cx="3095640" cy="8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Прямоугольник 2" descr=""/>
          <p:cNvPicPr/>
          <p:nvPr/>
        </p:nvPicPr>
        <p:blipFill>
          <a:blip r:embed="rId2"/>
          <a:stretch/>
        </p:blipFill>
        <p:spPr>
          <a:xfrm>
            <a:off x="566640" y="1633680"/>
            <a:ext cx="3133800" cy="622080"/>
          </a:xfrm>
          <a:prstGeom prst="rect">
            <a:avLst/>
          </a:prstGeom>
          <a:ln w="0">
            <a:noFill/>
          </a:ln>
        </p:spPr>
      </p:pic>
      <p:grpSp>
        <p:nvGrpSpPr>
          <p:cNvPr id="252" name="Прямоугольник 5"/>
          <p:cNvGrpSpPr/>
          <p:nvPr/>
        </p:nvGrpSpPr>
        <p:grpSpPr>
          <a:xfrm>
            <a:off x="2120760" y="2670120"/>
            <a:ext cx="3067200" cy="1000080"/>
            <a:chOff x="2120760" y="2670120"/>
            <a:chExt cx="3067200" cy="1000080"/>
          </a:xfrm>
        </p:grpSpPr>
        <p:pic>
          <p:nvPicPr>
            <p:cNvPr id="253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120760" y="2670120"/>
              <a:ext cx="30672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44880" y="2692440"/>
              <a:ext cx="302076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Прямоугольник 6"/>
          <p:cNvGrpSpPr/>
          <p:nvPr/>
        </p:nvGrpSpPr>
        <p:grpSpPr>
          <a:xfrm>
            <a:off x="3529080" y="3846600"/>
            <a:ext cx="3225600" cy="974520"/>
            <a:chOff x="3529080" y="3846600"/>
            <a:chExt cx="3225600" cy="974520"/>
          </a:xfrm>
        </p:grpSpPr>
        <p:pic>
          <p:nvPicPr>
            <p:cNvPr id="25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3529080" y="3846600"/>
              <a:ext cx="32256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52840" y="3868560"/>
              <a:ext cx="3178080" cy="9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Прямоугольник 7"/>
          <p:cNvGrpSpPr/>
          <p:nvPr/>
        </p:nvGrpSpPr>
        <p:grpSpPr>
          <a:xfrm>
            <a:off x="4718160" y="5052960"/>
            <a:ext cx="3913200" cy="1036800"/>
            <a:chOff x="4718160" y="5052960"/>
            <a:chExt cx="3913200" cy="1036800"/>
          </a:xfrm>
        </p:grpSpPr>
        <p:pic>
          <p:nvPicPr>
            <p:cNvPr id="259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4718160" y="5052960"/>
              <a:ext cx="39132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40120" y="5079960"/>
              <a:ext cx="38703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Выгнутая вверх стрелка 11"/>
          <p:cNvSpPr/>
          <p:nvPr/>
        </p:nvSpPr>
        <p:spPr>
          <a:xfrm rot="2337000">
            <a:off x="5260680" y="3043080"/>
            <a:ext cx="1303200" cy="468360"/>
          </a:xfrm>
          <a:custGeom>
            <a:avLst/>
            <a:gdLst>
              <a:gd name="textAreaLeft" fmla="*/ 281880 w 1303200"/>
              <a:gd name="textAreaRight" fmla="*/ 963000 w 1303200"/>
              <a:gd name="textAreaTop" fmla="*/ 62640 h 468360"/>
              <a:gd name="textAreaBottom" fmla="*/ 405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45" hR="21600" stAng="10800000" swAng="5400000"/>
                <a:lnTo>
                  <a:pt x="11286" y="0"/>
                </a:lnTo>
                <a:arcTo wR="9345" hR="21600" stAng="-5400000" swAng="3808505"/>
                <a:lnTo>
                  <a:pt x="21389" y="17041"/>
                </a:lnTo>
                <a:lnTo>
                  <a:pt x="19660" y="21600"/>
                </a:lnTo>
                <a:lnTo>
                  <a:pt x="17508" y="17041"/>
                </a:lnTo>
                <a:lnTo>
                  <a:pt x="18478" y="17041"/>
                </a:lnTo>
                <a:arcTo wR="9345" hR="21600" stAng="-1591495" swAng="-3653310"/>
                <a:lnTo>
                  <a:pt x="10315" y="117"/>
                </a:lnTo>
                <a:arcTo wR="9345" hR="21600" stAng="-5555194" swAng="-5244806"/>
                <a:close/>
              </a:path>
              <a:path fill="darkenLess" w="21600" h="21600">
                <a:moveTo>
                  <a:pt x="0" y="21600"/>
                </a:moveTo>
                <a:arcTo wR="9345" hR="21600" stAng="10800000" swAng="5400000"/>
                <a:lnTo>
                  <a:pt x="9345" y="0"/>
                </a:lnTo>
                <a:arcTo wR="9345" hR="21600" stAng="-5400000" swAng="155194"/>
                <a:lnTo>
                  <a:pt x="10315" y="117"/>
                </a:lnTo>
                <a:arcTo wR="9345" hR="21600" stAng="-5555194" swAng="-5244806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12" descr=""/>
          <p:cNvPicPr/>
          <p:nvPr/>
        </p:nvPicPr>
        <p:blipFill>
          <a:blip r:embed="rId6"/>
          <a:stretch/>
        </p:blipFill>
        <p:spPr>
          <a:xfrm>
            <a:off x="2193840" y="2809800"/>
            <a:ext cx="3043440" cy="622440"/>
          </a:xfrm>
          <a:prstGeom prst="rect">
            <a:avLst/>
          </a:prstGeom>
          <a:ln w="0">
            <a:noFill/>
          </a:ln>
        </p:spPr>
      </p:pic>
      <p:sp>
        <p:nvSpPr>
          <p:cNvPr id="263" name="Выгнутая вверх стрелка 13"/>
          <p:cNvSpPr/>
          <p:nvPr/>
        </p:nvSpPr>
        <p:spPr>
          <a:xfrm rot="2500800">
            <a:off x="3765240" y="1822320"/>
            <a:ext cx="1307880" cy="495360"/>
          </a:xfrm>
          <a:custGeom>
            <a:avLst/>
            <a:gdLst>
              <a:gd name="textAreaLeft" fmla="*/ 280440 w 1307880"/>
              <a:gd name="textAreaRight" fmla="*/ 965520 w 1307880"/>
              <a:gd name="textAreaTop" fmla="*/ 66240 h 495360"/>
              <a:gd name="textAreaBottom" fmla="*/ 4291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67" hR="21600" stAng="10800000" swAng="5400000"/>
                <a:lnTo>
                  <a:pt x="11312" y="0"/>
                </a:lnTo>
                <a:arcTo wR="9267" hR="21600" stAng="-5400000" swAng="3537488"/>
                <a:lnTo>
                  <a:pt x="21306" y="16200"/>
                </a:lnTo>
                <a:lnTo>
                  <a:pt x="19556" y="21600"/>
                </a:lnTo>
                <a:lnTo>
                  <a:pt x="17217" y="16200"/>
                </a:lnTo>
                <a:lnTo>
                  <a:pt x="18239" y="16200"/>
                </a:lnTo>
                <a:arcTo wR="9267" hR="21600" stAng="-1862512" swAng="-3373876"/>
                <a:lnTo>
                  <a:pt x="10289" y="132"/>
                </a:lnTo>
                <a:arcTo wR="9267" hR="21600" stAng="-5563612" swAng="-5236388"/>
                <a:close/>
              </a:path>
              <a:path fill="darkenLess" w="21600" h="21600">
                <a:moveTo>
                  <a:pt x="0" y="21600"/>
                </a:moveTo>
                <a:arcTo wR="9267" hR="21600" stAng="10800000" swAng="5400000"/>
                <a:lnTo>
                  <a:pt x="9267" y="0"/>
                </a:lnTo>
                <a:arcTo wR="9267" hR="21600" stAng="-5400000" swAng="163612"/>
                <a:lnTo>
                  <a:pt x="10289" y="132"/>
                </a:lnTo>
                <a:arcTo wR="9267" hR="21600" stAng="-5563612" swAng="-5236388"/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Прямоугольник 14" descr=""/>
          <p:cNvPicPr/>
          <p:nvPr/>
        </p:nvPicPr>
        <p:blipFill>
          <a:blip r:embed="rId7"/>
          <a:stretch/>
        </p:blipFill>
        <p:spPr>
          <a:xfrm>
            <a:off x="3828960" y="4164120"/>
            <a:ext cx="2711520" cy="34128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15" descr=""/>
          <p:cNvPicPr/>
          <p:nvPr/>
        </p:nvPicPr>
        <p:blipFill>
          <a:blip r:embed="rId8"/>
          <a:stretch/>
        </p:blipFill>
        <p:spPr>
          <a:xfrm>
            <a:off x="4784760" y="5126040"/>
            <a:ext cx="3889440" cy="896760"/>
          </a:xfrm>
          <a:prstGeom prst="rect">
            <a:avLst/>
          </a:prstGeom>
          <a:ln w="0">
            <a:noFill/>
          </a:ln>
        </p:spPr>
      </p:pic>
      <p:sp>
        <p:nvSpPr>
          <p:cNvPr id="266" name="Выгнутая вверх стрелка 16"/>
          <p:cNvSpPr/>
          <p:nvPr/>
        </p:nvSpPr>
        <p:spPr>
          <a:xfrm rot="1806600">
            <a:off x="6903720" y="4221000"/>
            <a:ext cx="1320840" cy="538200"/>
          </a:xfrm>
          <a:custGeom>
            <a:avLst/>
            <a:gdLst>
              <a:gd name="textAreaLeft" fmla="*/ 279720 w 1320840"/>
              <a:gd name="textAreaRight" fmla="*/ 973800 w 1320840"/>
              <a:gd name="textAreaTop" fmla="*/ 72000 h 538200"/>
              <a:gd name="textAreaBottom" fmla="*/ 466200 h 538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50" hR="21600" stAng="10800000" swAng="5400000"/>
                <a:lnTo>
                  <a:pt x="11350" y="0"/>
                </a:lnTo>
                <a:arcTo wR="9150" hR="21600" stAng="-5400000" swAng="3518215"/>
                <a:lnTo>
                  <a:pt x="21309" y="16200"/>
                </a:lnTo>
                <a:lnTo>
                  <a:pt x="19400" y="21600"/>
                </a:lnTo>
                <a:lnTo>
                  <a:pt x="16909" y="16200"/>
                </a:lnTo>
                <a:lnTo>
                  <a:pt x="18009" y="16200"/>
                </a:lnTo>
                <a:arcTo wR="9150" hR="21600" stAng="-1881785" swAng="-3342020"/>
                <a:lnTo>
                  <a:pt x="10250" y="157"/>
                </a:lnTo>
                <a:arcTo wR="9150" hR="21600" stAng="-5576195" swAng="-5223805"/>
                <a:close/>
              </a:path>
              <a:path fill="darkenLess" w="21600" h="21600">
                <a:moveTo>
                  <a:pt x="0" y="21600"/>
                </a:moveTo>
                <a:arcTo wR="9150" hR="21600" stAng="10800000" swAng="5400000"/>
                <a:lnTo>
                  <a:pt x="9150" y="0"/>
                </a:lnTo>
                <a:arcTo wR="9150" hR="21600" stAng="-5400000" swAng="176195"/>
                <a:lnTo>
                  <a:pt x="10250" y="157"/>
                </a:lnTo>
                <a:arcTo wR="9150" hR="21600" stAng="-5576195" swAng="-522380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Овал 17"/>
          <p:cNvGrpSpPr/>
          <p:nvPr/>
        </p:nvGrpSpPr>
        <p:grpSpPr>
          <a:xfrm>
            <a:off x="1438200" y="2687760"/>
            <a:ext cx="1128960" cy="1000080"/>
            <a:chOff x="1438200" y="2687760"/>
            <a:chExt cx="1128960" cy="1000080"/>
          </a:xfrm>
        </p:grpSpPr>
        <p:pic>
          <p:nvPicPr>
            <p:cNvPr id="268" name="Овал 17" descr=""/>
            <p:cNvPicPr/>
            <p:nvPr/>
          </p:nvPicPr>
          <p:blipFill>
            <a:blip r:embed="rId9"/>
            <a:stretch/>
          </p:blipFill>
          <p:spPr>
            <a:xfrm>
              <a:off x="1438200" y="2687760"/>
              <a:ext cx="11289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70120" y="3002040"/>
              <a:ext cx="455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Прямоугольник 20" descr=""/>
          <p:cNvPicPr/>
          <p:nvPr/>
        </p:nvPicPr>
        <p:blipFill>
          <a:blip r:embed="rId10"/>
          <a:stretch/>
        </p:blipFill>
        <p:spPr>
          <a:xfrm>
            <a:off x="1670040" y="2876400"/>
            <a:ext cx="665280" cy="62892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/>
          <p:cNvSpPr/>
          <p:nvPr/>
        </p:nvSpPr>
        <p:spPr>
          <a:xfrm>
            <a:off x="228600" y="190440"/>
            <a:ext cx="869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БЮДЖЕТНОГО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ЛОЯР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Овал 23"/>
          <p:cNvGrpSpPr/>
          <p:nvPr/>
        </p:nvGrpSpPr>
        <p:grpSpPr>
          <a:xfrm>
            <a:off x="-85680" y="1500120"/>
            <a:ext cx="1128600" cy="998640"/>
            <a:chOff x="-85680" y="1500120"/>
            <a:chExt cx="1128600" cy="998640"/>
          </a:xfrm>
        </p:grpSpPr>
        <p:pic>
          <p:nvPicPr>
            <p:cNvPr id="273" name="Овал 23" descr=""/>
            <p:cNvPicPr/>
            <p:nvPr/>
          </p:nvPicPr>
          <p:blipFill>
            <a:blip r:embed="rId11"/>
            <a:stretch/>
          </p:blipFill>
          <p:spPr>
            <a:xfrm>
              <a:off x="-85680" y="1500120"/>
              <a:ext cx="11286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246240" y="1814400"/>
              <a:ext cx="455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Прямоугольник 24" descr=""/>
          <p:cNvPicPr/>
          <p:nvPr/>
        </p:nvPicPr>
        <p:blipFill>
          <a:blip r:embed="rId12"/>
          <a:stretch/>
        </p:blipFill>
        <p:spPr>
          <a:xfrm>
            <a:off x="139680" y="1689120"/>
            <a:ext cx="665280" cy="633240"/>
          </a:xfrm>
          <a:prstGeom prst="rect">
            <a:avLst/>
          </a:prstGeom>
          <a:ln w="0">
            <a:noFill/>
          </a:ln>
        </p:spPr>
      </p:pic>
      <p:grpSp>
        <p:nvGrpSpPr>
          <p:cNvPr id="276" name="Овал 25"/>
          <p:cNvGrpSpPr/>
          <p:nvPr/>
        </p:nvGrpSpPr>
        <p:grpSpPr>
          <a:xfrm>
            <a:off x="2773440" y="3882960"/>
            <a:ext cx="1128600" cy="993960"/>
            <a:chOff x="2773440" y="3882960"/>
            <a:chExt cx="1128600" cy="993960"/>
          </a:xfrm>
        </p:grpSpPr>
        <p:pic>
          <p:nvPicPr>
            <p:cNvPr id="277" name="Овал 25" descr=""/>
            <p:cNvPicPr/>
            <p:nvPr/>
          </p:nvPicPr>
          <p:blipFill>
            <a:blip r:embed="rId13"/>
            <a:stretch/>
          </p:blipFill>
          <p:spPr>
            <a:xfrm>
              <a:off x="2773440" y="3882960"/>
              <a:ext cx="1128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105000" y="4194000"/>
              <a:ext cx="455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Прямоугольник 27" descr=""/>
          <p:cNvPicPr/>
          <p:nvPr/>
        </p:nvPicPr>
        <p:blipFill>
          <a:blip r:embed="rId14"/>
          <a:stretch/>
        </p:blipFill>
        <p:spPr>
          <a:xfrm>
            <a:off x="2998800" y="4071960"/>
            <a:ext cx="665280" cy="628560"/>
          </a:xfrm>
          <a:prstGeom prst="rect">
            <a:avLst/>
          </a:prstGeom>
          <a:ln w="0">
            <a:noFill/>
          </a:ln>
        </p:spPr>
      </p:pic>
      <p:grpSp>
        <p:nvGrpSpPr>
          <p:cNvPr id="280" name="Овал 29"/>
          <p:cNvGrpSpPr/>
          <p:nvPr/>
        </p:nvGrpSpPr>
        <p:grpSpPr>
          <a:xfrm>
            <a:off x="3925800" y="5114880"/>
            <a:ext cx="1127160" cy="1000080"/>
            <a:chOff x="3925800" y="5114880"/>
            <a:chExt cx="1127160" cy="1000080"/>
          </a:xfrm>
        </p:grpSpPr>
        <p:pic>
          <p:nvPicPr>
            <p:cNvPr id="281" name="Овал 29" descr=""/>
            <p:cNvPicPr/>
            <p:nvPr/>
          </p:nvPicPr>
          <p:blipFill>
            <a:blip r:embed="rId15"/>
            <a:stretch/>
          </p:blipFill>
          <p:spPr>
            <a:xfrm>
              <a:off x="3925800" y="5114880"/>
              <a:ext cx="11271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260960" y="5427720"/>
              <a:ext cx="4554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Прямоугольник 30" descr=""/>
          <p:cNvPicPr/>
          <p:nvPr/>
        </p:nvPicPr>
        <p:blipFill>
          <a:blip r:embed="rId16"/>
          <a:stretch/>
        </p:blipFill>
        <p:spPr>
          <a:xfrm>
            <a:off x="4151160" y="5310360"/>
            <a:ext cx="665280" cy="6332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3"/>
          <p:cNvSpPr/>
          <p:nvPr/>
        </p:nvSpPr>
        <p:spPr>
          <a:xfrm>
            <a:off x="8077320" y="4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лайд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Арка 1"/>
          <p:cNvGrpSpPr/>
          <p:nvPr/>
        </p:nvGrpSpPr>
        <p:grpSpPr>
          <a:xfrm>
            <a:off x="3529080" y="1835280"/>
            <a:ext cx="1914480" cy="1341360"/>
            <a:chOff x="3529080" y="1835280"/>
            <a:chExt cx="1914480" cy="1341360"/>
          </a:xfrm>
        </p:grpSpPr>
        <p:pic>
          <p:nvPicPr>
            <p:cNvPr id="286" name="Арка 1" descr=""/>
            <p:cNvPicPr/>
            <p:nvPr/>
          </p:nvPicPr>
          <p:blipFill>
            <a:blip r:embed="rId1"/>
            <a:stretch/>
          </p:blipFill>
          <p:spPr>
            <a:xfrm>
              <a:off x="3529080" y="1835280"/>
              <a:ext cx="19144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954000">
              <a:off x="3633840" y="2068560"/>
              <a:ext cx="17082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Арка 5"/>
          <p:cNvGrpSpPr/>
          <p:nvPr/>
        </p:nvGrpSpPr>
        <p:grpSpPr>
          <a:xfrm>
            <a:off x="4979880" y="2724120"/>
            <a:ext cx="792360" cy="1494000"/>
            <a:chOff x="4979880" y="2724120"/>
            <a:chExt cx="792360" cy="1494000"/>
          </a:xfrm>
        </p:grpSpPr>
        <p:pic>
          <p:nvPicPr>
            <p:cNvPr id="289" name="Арка 5" descr=""/>
            <p:cNvPicPr/>
            <p:nvPr/>
          </p:nvPicPr>
          <p:blipFill>
            <a:blip r:embed="rId2"/>
            <a:stretch/>
          </p:blipFill>
          <p:spPr>
            <a:xfrm>
              <a:off x="4979880" y="2724120"/>
              <a:ext cx="79236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5155800">
              <a:off x="4667760" y="3137760"/>
              <a:ext cx="14209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Арка 6"/>
          <p:cNvGrpSpPr/>
          <p:nvPr/>
        </p:nvGrpSpPr>
        <p:grpSpPr>
          <a:xfrm>
            <a:off x="3560760" y="3597120"/>
            <a:ext cx="1792440" cy="1455840"/>
            <a:chOff x="3560760" y="3597120"/>
            <a:chExt cx="1792440" cy="1455840"/>
          </a:xfrm>
        </p:grpSpPr>
        <p:pic>
          <p:nvPicPr>
            <p:cNvPr id="292" name="Арка 6" descr=""/>
            <p:cNvPicPr/>
            <p:nvPr/>
          </p:nvPicPr>
          <p:blipFill>
            <a:blip r:embed="rId3"/>
            <a:stretch/>
          </p:blipFill>
          <p:spPr>
            <a:xfrm>
              <a:off x="3560760" y="3597120"/>
              <a:ext cx="179244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 rot="6823800">
              <a:off x="4015080" y="3555000"/>
              <a:ext cx="88416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Арка 8"/>
          <p:cNvGrpSpPr/>
          <p:nvPr/>
        </p:nvGrpSpPr>
        <p:grpSpPr>
          <a:xfrm>
            <a:off x="3029040" y="2577960"/>
            <a:ext cx="952560" cy="1513080"/>
            <a:chOff x="3029040" y="2577960"/>
            <a:chExt cx="952560" cy="1513080"/>
          </a:xfrm>
        </p:grpSpPr>
        <p:pic>
          <p:nvPicPr>
            <p:cNvPr id="295" name="Арка 8" descr=""/>
            <p:cNvPicPr/>
            <p:nvPr/>
          </p:nvPicPr>
          <p:blipFill>
            <a:blip r:embed="rId4"/>
            <a:stretch/>
          </p:blipFill>
          <p:spPr>
            <a:xfrm>
              <a:off x="3029040" y="2577960"/>
              <a:ext cx="95256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4939200">
              <a:off x="2809800" y="2965320"/>
              <a:ext cx="13921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Стрелка вниз 3"/>
          <p:cNvSpPr/>
          <p:nvPr/>
        </p:nvSpPr>
        <p:spPr>
          <a:xfrm rot="2421600">
            <a:off x="5376600" y="4182840"/>
            <a:ext cx="415800" cy="6537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7f7f7f"/>
          </a:solidFill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трелка влево 4"/>
          <p:cNvSpPr/>
          <p:nvPr/>
        </p:nvSpPr>
        <p:spPr>
          <a:xfrm rot="2934000">
            <a:off x="2837160" y="4051800"/>
            <a:ext cx="727200" cy="4525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7f7f7f"/>
          </a:solidFill>
          <a:ln w="158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верх 10"/>
          <p:cNvSpPr/>
          <p:nvPr/>
        </p:nvSpPr>
        <p:spPr>
          <a:xfrm rot="2733000">
            <a:off x="3221640" y="2042280"/>
            <a:ext cx="385560" cy="622440"/>
          </a:xfrm>
          <a:prstGeom prst="upArrow">
            <a:avLst>
              <a:gd name="adj1" fmla="val 50000"/>
              <a:gd name="adj2" fmla="val 50038"/>
            </a:avLst>
          </a:prstGeom>
          <a:solidFill>
            <a:srgbClr val="7f7f7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трелка вниз 11"/>
          <p:cNvSpPr/>
          <p:nvPr/>
        </p:nvSpPr>
        <p:spPr>
          <a:xfrm rot="18929400">
            <a:off x="5533920" y="2199960"/>
            <a:ext cx="411120" cy="66204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2"/>
          <p:cNvSpPr/>
          <p:nvPr/>
        </p:nvSpPr>
        <p:spPr>
          <a:xfrm>
            <a:off x="5191200" y="2009880"/>
            <a:ext cx="563400" cy="4363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3"/>
          <p:cNvSpPr/>
          <p:nvPr/>
        </p:nvSpPr>
        <p:spPr>
          <a:xfrm>
            <a:off x="5607000" y="3948120"/>
            <a:ext cx="544680" cy="4158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4"/>
          <p:cNvSpPr/>
          <p:nvPr/>
        </p:nvSpPr>
        <p:spPr>
          <a:xfrm>
            <a:off x="3240000" y="4392720"/>
            <a:ext cx="420840" cy="4158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5"/>
          <p:cNvSpPr/>
          <p:nvPr/>
        </p:nvSpPr>
        <p:spPr>
          <a:xfrm>
            <a:off x="2760840" y="2454120"/>
            <a:ext cx="492120" cy="4572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>
            <a:off x="3732120" y="2130480"/>
            <a:ext cx="14716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9"/>
          <p:cNvSpPr/>
          <p:nvPr/>
        </p:nvSpPr>
        <p:spPr>
          <a:xfrm>
            <a:off x="4248000" y="3119400"/>
            <a:ext cx="2586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, рассмотрение и утверждение годового отчета об исполнении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1"/>
          <p:cNvSpPr/>
          <p:nvPr/>
        </p:nvSpPr>
        <p:spPr>
          <a:xfrm>
            <a:off x="2374920" y="3106800"/>
            <a:ext cx="202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и утверждение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2"/>
          <p:cNvSpPr/>
          <p:nvPr/>
        </p:nvSpPr>
        <p:spPr>
          <a:xfrm>
            <a:off x="3664080" y="4087800"/>
            <a:ext cx="160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оекта бюдже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3"/>
          <p:cNvSpPr/>
          <p:nvPr/>
        </p:nvSpPr>
        <p:spPr>
          <a:xfrm>
            <a:off x="0" y="4605480"/>
            <a:ext cx="2798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тся основные направления налоговой, бюджетной политики и характеристики бюджета района (поселения) на очередной финансовый год и плановый пери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5"/>
          <p:cNvSpPr/>
          <p:nvPr/>
        </p:nvSpPr>
        <p:spPr>
          <a:xfrm>
            <a:off x="3240" y="1527120"/>
            <a:ext cx="250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о бюджете в одном чте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6"/>
          <p:cNvSpPr/>
          <p:nvPr/>
        </p:nvSpPr>
        <p:spPr>
          <a:xfrm>
            <a:off x="6076800" y="1494000"/>
            <a:ext cx="279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обеспечивается администрацией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7"/>
          <p:cNvSpPr/>
          <p:nvPr/>
        </p:nvSpPr>
        <p:spPr>
          <a:xfrm>
            <a:off x="6135840" y="4565520"/>
            <a:ext cx="3016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и финансового года, а также по итогам года  составляется бюджетная отчетнос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3240" y="2016000"/>
            <a:ext cx="27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рассмотрения проект решения о бюджете утверждается Думой района (советом депутатов 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4"/>
          <p:cNvSpPr/>
          <p:nvPr/>
        </p:nvSpPr>
        <p:spPr>
          <a:xfrm>
            <a:off x="33480" y="195120"/>
            <a:ext cx="929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МЕРОПРИЯТИЯ ПО ЭТАПАМ БЮДЖЕТНОГО ПРОЦЕССА БЕЛОЯРСКОГО РАЙОНА И ПОСЕ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42"/>
          <p:cNvSpPr/>
          <p:nvPr/>
        </p:nvSpPr>
        <p:spPr>
          <a:xfrm>
            <a:off x="763560" y="1000080"/>
            <a:ext cx="492120" cy="45720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43"/>
          <p:cNvSpPr/>
          <p:nvPr/>
        </p:nvSpPr>
        <p:spPr>
          <a:xfrm>
            <a:off x="847800" y="3960720"/>
            <a:ext cx="501480" cy="46512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45"/>
          <p:cNvSpPr/>
          <p:nvPr/>
        </p:nvSpPr>
        <p:spPr>
          <a:xfrm>
            <a:off x="-3240" y="55008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распределение бюджетных ассигнований по муниципальным программам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6"/>
          <p:cNvSpPr/>
          <p:nvPr/>
        </p:nvSpPr>
        <p:spPr>
          <a:xfrm>
            <a:off x="30240" y="6054840"/>
            <a:ext cx="34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ся прогноз социально-экономического развития 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47"/>
          <p:cNvSpPr/>
          <p:nvPr/>
        </p:nvSpPr>
        <p:spPr>
          <a:xfrm>
            <a:off x="6470640" y="2019240"/>
            <a:ext cx="2851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ый орган  района организует исполнение бюджета района (поселения) на основе сводной бюджетной росписи и кассового плана. Бюджет исполняется по доходам, расходам и источникам финансирования дефицита бюджета на основе принципов единства кассы и подведомственности расх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48"/>
          <p:cNvSpPr/>
          <p:nvPr/>
        </p:nvSpPr>
        <p:spPr>
          <a:xfrm>
            <a:off x="7361280" y="1020600"/>
            <a:ext cx="565200" cy="4366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9"/>
          <p:cNvSpPr/>
          <p:nvPr/>
        </p:nvSpPr>
        <p:spPr>
          <a:xfrm>
            <a:off x="5222880" y="5695920"/>
            <a:ext cx="4132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ой отчет об исполнении бюджета района (поселения) направляется на внешнюю проверку в контрольно-счетную палату района и вносится в Думу района (совет депутатов поселения) для утверждения в форме решения Думы (совета депутатов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0"/>
          <p:cNvSpPr/>
          <p:nvPr/>
        </p:nvSpPr>
        <p:spPr>
          <a:xfrm>
            <a:off x="5653080" y="5146560"/>
            <a:ext cx="327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об исполнении бюджета района (1 квартал, первое полугодие, 9 месяцев) утверждается постановлением администрации района (поселен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51"/>
          <p:cNvSpPr/>
          <p:nvPr/>
        </p:nvSpPr>
        <p:spPr>
          <a:xfrm>
            <a:off x="7464600" y="3960720"/>
            <a:ext cx="572760" cy="416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2"/>
          <p:cNvSpPr/>
          <p:nvPr/>
        </p:nvSpPr>
        <p:spPr>
          <a:xfrm>
            <a:off x="8188200" y="-842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лайд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2"/>
          <p:cNvSpPr/>
          <p:nvPr/>
        </p:nvSpPr>
        <p:spPr>
          <a:xfrm>
            <a:off x="228600" y="184320"/>
            <a:ext cx="86947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ПАРАМЕТР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ЛОЯР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87280" y="1295280"/>
          <a:ext cx="8577360" cy="4984920"/>
        </p:xfrm>
        <a:graphic>
          <a:graphicData uri="http://schemas.openxmlformats.org/drawingml/2006/table">
            <a:tbl>
              <a:tblPr/>
              <a:tblGrid>
                <a:gridCol w="3370320"/>
                <a:gridCol w="1717560"/>
                <a:gridCol w="1744920"/>
                <a:gridCol w="1744560"/>
              </a:tblGrid>
              <a:tr h="2635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461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, из них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20 945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32 75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02 80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</a:tr>
              <a:tr h="5032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 из бюджета автономного округа, в том числ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52 859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343 010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99 708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ац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8 849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 942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 327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79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убсид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4 701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4 201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 05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761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убвен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4 760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29 61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59 052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2808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ые межбюджетные трансферт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549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 25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75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6922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безвозмездных поступлений   автономного округа в доходах  бюджета райо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434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бюджет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99 52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88 823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30 224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</a:tr>
              <a:tr h="6922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расходов на социальную сферу в общей сумме расходов бюджета, в процентах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1f4"/>
                    </a:solidFill>
                  </a:tcPr>
                </a:tc>
              </a:tr>
              <a:tr h="554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цит/дефицит бюдж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4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6 0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7 4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f7ba"/>
                    </a:solidFill>
                  </a:tcPr>
                </a:tc>
              </a:tr>
            </a:tbl>
          </a:graphicData>
        </a:graphic>
      </p:graphicFrame>
      <p:sp>
        <p:nvSpPr>
          <p:cNvPr id="327" name="TextBox 4"/>
          <p:cNvSpPr/>
          <p:nvPr/>
        </p:nvSpPr>
        <p:spPr>
          <a:xfrm>
            <a:off x="8077320" y="1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Слай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7086600" y="92232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51:52Z</dcterms:created>
  <dc:creator>Роман</dc:creator>
  <dc:description/>
  <dc:language>en-US</dc:language>
  <cp:lastModifiedBy>Ахметчина Надежда Николаевна</cp:lastModifiedBy>
  <cp:lastPrinted>2019-01-28T09:07:04Z</cp:lastPrinted>
  <dcterms:modified xsi:type="dcterms:W3CDTF">2019-01-28T09:25:35Z</dcterms:modified>
  <cp:revision>675</cp:revision>
  <dc:subject/>
  <dc:title>Информационные Технологии Стабильности и Развития</dc:title>
</cp:coreProperties>
</file>